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6.wmf" ContentType="image/x-wmf"/>
  <Override PartName="/ppt/media/image7.jpeg" ContentType="image/jpeg"/>
  <Override PartName="/ppt/media/image5.wmf" ContentType="image/x-wmf"/>
  <Override PartName="/ppt/media/image10.png" ContentType="image/png"/>
  <Override PartName="/ppt/media/image4.png" ContentType="image/png"/>
  <Override PartName="/ppt/media/TYPE.WAV" ContentType="audio/x-wav"/>
  <Override PartName="/ppt/media/CARBRAKE.WAV" ContentType="audio/x-wav"/>
  <Override PartName="/ppt/media/image8.png" ContentType="image/png"/>
  <Override PartName="/ppt/media/WHOOSH.WAV" ContentType="audio/x-wav"/>
  <Override PartName="/ppt/media/image14.jpeg" ContentType="image/jpeg"/>
  <Override PartName="/ppt/media/image18.jpeg" ContentType="image/jpeg"/>
  <Override PartName="/ppt/media/image17.jpeg" ContentType="image/jpeg"/>
  <Override PartName="/ppt/media/image9.png" ContentType="image/png"/>
  <Override PartName="/ppt/media/image16.jpeg" ContentType="image/jpeg"/>
  <Override PartName="/ppt/media/image11.jpeg" ContentType="image/jpeg"/>
  <Override PartName="/ppt/media/CASHREG.WAV" ContentType="audio/x-wav"/>
  <Override PartName="/ppt/media/RICOCHET.WAV" ContentType="audio/x-wav"/>
  <Override PartName="/ppt/media/image13.png" ContentType="image/png"/>
  <Override PartName="/ppt/media/image12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3AF2-7048-4421-B460-D86A58F1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B664-CF0C-45A3-A5B0-10E45476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EE80-6D2E-4868-9F9D-4FE2DD32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83D3-F1FF-401B-8606-638E1AC8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D460-D3B5-4980-966D-4244846F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CF3F-94C2-4900-BA7F-B1B463FE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B6CD-234F-459C-B72C-C791B782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C562-1138-4940-BF92-9B8435F8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57EF-E610-4621-BEF5-A7DF33C6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A449-CB56-4B3B-AB3E-C3D9F975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4E18-F367-4CCF-A2D1-D7B81422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F23B-9094-48C2-9D0F-7929D7CF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1D48-6A9D-4826-9BBE-8833C2A6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F2D6-90EF-400A-AFF3-D04D7C67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058C-7A43-48DF-9CCE-555F7978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E24E-ECC8-411D-9E52-A05F76C7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BA54-4FF8-4675-93C9-A85999A23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73BE-E341-4DD9-8077-CFA6D008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E982-DF1D-4032-BCDB-8A5CD1A6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D7E3-D527-440F-B242-5BC5349E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4C63-C981-425A-84CB-A40ADF8F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6897-9610-404E-843E-1164A597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CCA4-9825-420E-81C5-CA4853D8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3BAE-6072-474A-B719-128C0C37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6160" y="976320"/>
            <a:ext cx="8835840" cy="5256360"/>
            <a:chOff x="146160" y="976320"/>
            <a:chExt cx="8835840" cy="5256360"/>
          </a:xfrm>
        </p:grpSpPr>
        <p:grpSp>
          <p:nvGrpSpPr>
            <p:cNvPr id="1" name="Group 3"/>
            <p:cNvGrpSpPr/>
            <p:nvPr/>
          </p:nvGrpSpPr>
          <p:grpSpPr>
            <a:xfrm>
              <a:off x="3673440" y="979560"/>
              <a:ext cx="5308560" cy="4889520"/>
              <a:chOff x="3673440" y="979560"/>
              <a:chExt cx="5308560" cy="488952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8201160" y="4087800"/>
                <a:ext cx="780840" cy="1781280"/>
                <a:chOff x="8201160" y="4087800"/>
                <a:chExt cx="780840" cy="1781280"/>
              </a:xfrm>
            </p:grpSpPr>
            <p:grpSp>
              <p:nvGrpSpPr>
                <p:cNvPr id="3" name="Group 5"/>
                <p:cNvGrpSpPr/>
                <p:nvPr/>
              </p:nvGrpSpPr>
              <p:grpSpPr>
                <a:xfrm>
                  <a:off x="8201160" y="5345280"/>
                  <a:ext cx="780840" cy="523800"/>
                  <a:chOff x="8201160" y="5345280"/>
                  <a:chExt cx="780840" cy="523800"/>
                </a:xfrm>
              </p:grpSpPr>
              <p:sp>
                <p:nvSpPr>
                  <p:cNvPr id="4" name="Freeform 6"/>
                  <p:cNvSpPr/>
                  <p:nvPr/>
                </p:nvSpPr>
                <p:spPr>
                  <a:xfrm>
                    <a:off x="8856720" y="5345280"/>
                    <a:ext cx="125280" cy="317160"/>
                  </a:xfrm>
                  <a:custGeom>
                    <a:avLst/>
                    <a:gdLst>
                      <a:gd name="textAreaLeft" fmla="*/ 0 w 125280"/>
                      <a:gd name="textAreaRight" fmla="*/ 125280 w 125280"/>
                      <a:gd name="textAreaTop" fmla="*/ 0 h 317160"/>
                      <a:gd name="textAreaBottom" fmla="*/ 317520 h 317160"/>
                    </a:gdLst>
                    <a:ahLst/>
                    <a:rect l="textAreaLeft" t="textAreaTop" r="textAreaRight" b="textAreaBottom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Freeform 7"/>
                  <p:cNvSpPr/>
                  <p:nvPr/>
                </p:nvSpPr>
                <p:spPr>
                  <a:xfrm>
                    <a:off x="8616960" y="5599080"/>
                    <a:ext cx="231840" cy="270000"/>
                  </a:xfrm>
                  <a:custGeom>
                    <a:avLst/>
                    <a:gdLst>
                      <a:gd name="textAreaLeft" fmla="*/ 0 w 231840"/>
                      <a:gd name="textAreaRight" fmla="*/ 232200 w 23184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8201160" y="5614920"/>
                    <a:ext cx="88920" cy="14292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142920"/>
                      <a:gd name="textAreaBottom" fmla="*/ 143280 h 142920"/>
                    </a:gdLst>
                    <a:ahLst/>
                    <a:rect l="textAreaLeft" t="textAreaTop" r="textAreaRight" b="textAreaBottom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" name="Freeform 9"/>
                <p:cNvSpPr/>
                <p:nvPr/>
              </p:nvSpPr>
              <p:spPr>
                <a:xfrm>
                  <a:off x="8359920" y="4087800"/>
                  <a:ext cx="141120" cy="16020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200"/>
                    <a:gd name="textAreaBottom" fmla="*/ 160560 h 16020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Group 10"/>
              <p:cNvGrpSpPr/>
              <p:nvPr/>
            </p:nvGrpSpPr>
            <p:grpSpPr>
              <a:xfrm>
                <a:off x="6815160" y="1752480"/>
                <a:ext cx="1646280" cy="3799080"/>
                <a:chOff x="6815160" y="1752480"/>
                <a:chExt cx="1646280" cy="379908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7080120" y="2139840"/>
                  <a:ext cx="368280" cy="1141560"/>
                  <a:chOff x="7080120" y="2139840"/>
                  <a:chExt cx="368280" cy="11415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7080120" y="3164040"/>
                    <a:ext cx="88920" cy="11736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117360"/>
                      <a:gd name="textAreaBottom" fmla="*/ 117720 h 117360"/>
                    </a:gdLst>
                    <a:ahLst/>
                    <a:rect l="textAreaLeft" t="textAreaTop" r="textAreaRight" b="textAreaBottom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7313760" y="2960640"/>
                    <a:ext cx="85680" cy="149400"/>
                  </a:xfrm>
                  <a:custGeom>
                    <a:avLst/>
                    <a:gdLst>
                      <a:gd name="textAreaLeft" fmla="*/ 0 w 85680"/>
                      <a:gd name="textAreaRight" fmla="*/ 85680 w 85680"/>
                      <a:gd name="textAreaTop" fmla="*/ 0 h 149400"/>
                      <a:gd name="textAreaBottom" fmla="*/ 149760 h 149400"/>
                    </a:gdLst>
                    <a:ahLst/>
                    <a:rect l="textAreaLeft" t="textAreaTop" r="textAreaRight" b="textAreaBottom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7297560" y="2139840"/>
                    <a:ext cx="150840" cy="138240"/>
                  </a:xfrm>
                  <a:custGeom>
                    <a:avLst/>
                    <a:gdLst>
                      <a:gd name="textAreaLeft" fmla="*/ 0 w 150840"/>
                      <a:gd name="textAreaRight" fmla="*/ 151200 w 150840"/>
                      <a:gd name="textAreaTop" fmla="*/ 0 h 138240"/>
                      <a:gd name="textAreaBottom" fmla="*/ 138240 h 138240"/>
                    </a:gdLst>
                    <a:ahLst/>
                    <a:rect l="textAreaLeft" t="textAreaTop" r="textAreaRight" b="textAreaBottom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" name="Freeform 15"/>
                <p:cNvSpPr/>
                <p:nvPr/>
              </p:nvSpPr>
              <p:spPr>
                <a:xfrm>
                  <a:off x="7423200" y="4449600"/>
                  <a:ext cx="1038240" cy="1101960"/>
                </a:xfrm>
                <a:custGeom>
                  <a:avLst/>
                  <a:gdLst>
                    <a:gd name="textAreaLeft" fmla="*/ 0 w 1038240"/>
                    <a:gd name="textAreaRight" fmla="*/ 1038600 w 1038240"/>
                    <a:gd name="textAreaTop" fmla="*/ 0 h 1101960"/>
                    <a:gd name="textAreaBottom" fmla="*/ 1102320 h 1101960"/>
                  </a:gdLst>
                  <a:ahLst/>
                  <a:rect l="textAreaLeft" t="textAreaTop" r="textAreaRight" b="textAreaBottom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6"/>
                <p:cNvSpPr/>
                <p:nvPr/>
              </p:nvSpPr>
              <p:spPr>
                <a:xfrm>
                  <a:off x="7180200" y="4211640"/>
                  <a:ext cx="576360" cy="150840"/>
                </a:xfrm>
                <a:custGeom>
                  <a:avLst/>
                  <a:gdLst>
                    <a:gd name="textAreaLeft" fmla="*/ 0 w 576360"/>
                    <a:gd name="textAreaRight" fmla="*/ 576720 w 57636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>
                  <a:off x="7494480" y="3917880"/>
                  <a:ext cx="262080" cy="289080"/>
                </a:xfrm>
                <a:custGeom>
                  <a:avLst/>
                  <a:gdLst>
                    <a:gd name="textAreaLeft" fmla="*/ 0 w 262080"/>
                    <a:gd name="textAreaRight" fmla="*/ 262440 w 262080"/>
                    <a:gd name="textAreaTop" fmla="*/ 0 h 289080"/>
                    <a:gd name="textAreaBottom" fmla="*/ 289440 h 289080"/>
                  </a:gdLst>
                  <a:ahLst/>
                  <a:rect l="textAreaLeft" t="textAreaTop" r="textAreaRight" b="textAreaBottom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7221600" y="3789360"/>
                  <a:ext cx="288720" cy="39528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395280"/>
                    <a:gd name="textAreaBottom" fmla="*/ 395640 h 395280"/>
                  </a:gdLst>
                  <a:ahLst/>
                  <a:rect l="textAreaLeft" t="textAreaTop" r="textAreaRight" b="textAreaBottom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7832880" y="4014720"/>
                  <a:ext cx="552240" cy="37296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372960"/>
                    <a:gd name="textAreaBottom" fmla="*/ 373320 h 372960"/>
                  </a:gdLst>
                  <a:ahLst/>
                  <a:rect l="textAreaLeft" t="textAreaTop" r="textAreaRight" b="textAreaBottom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6815160" y="3749760"/>
                  <a:ext cx="331920" cy="492120"/>
                </a:xfrm>
                <a:custGeom>
                  <a:avLst/>
                  <a:gdLst>
                    <a:gd name="textAreaLeft" fmla="*/ 0 w 331920"/>
                    <a:gd name="textAreaRight" fmla="*/ 332280 w 331920"/>
                    <a:gd name="textAreaTop" fmla="*/ 0 h 492120"/>
                    <a:gd name="textAreaBottom" fmla="*/ 492480 h 492120"/>
                  </a:gdLst>
                  <a:ahLst/>
                  <a:rect l="textAreaLeft" t="textAreaTop" r="textAreaRight" b="textAreaBottom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7404120" y="3220920"/>
                  <a:ext cx="325440" cy="541440"/>
                </a:xfrm>
                <a:custGeom>
                  <a:avLst/>
                  <a:gdLst>
                    <a:gd name="textAreaLeft" fmla="*/ 0 w 325440"/>
                    <a:gd name="textAreaRight" fmla="*/ 325800 w 325440"/>
                    <a:gd name="textAreaTop" fmla="*/ 0 h 541440"/>
                    <a:gd name="textAreaBottom" fmla="*/ 541440 h 541440"/>
                  </a:gdLst>
                  <a:ahLst/>
                  <a:rect l="textAreaLeft" t="textAreaTop" r="textAreaRight" b="textAreaBottom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7332840" y="2305080"/>
                  <a:ext cx="237960" cy="458640"/>
                </a:xfrm>
                <a:custGeom>
                  <a:avLst/>
                  <a:gdLst>
                    <a:gd name="textAreaLeft" fmla="*/ 0 w 237960"/>
                    <a:gd name="textAreaRight" fmla="*/ 238320 w 237960"/>
                    <a:gd name="textAreaTop" fmla="*/ 0 h 458640"/>
                    <a:gd name="textAreaBottom" fmla="*/ 459000 h 458640"/>
                  </a:gdLst>
                  <a:ahLst/>
                  <a:rect l="textAreaLeft" t="textAreaTop" r="textAreaRight" b="textAreaBottom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061040" y="1752480"/>
                  <a:ext cx="262080" cy="376200"/>
                </a:xfrm>
                <a:custGeom>
                  <a:avLst/>
                  <a:gdLst>
                    <a:gd name="textAreaLeft" fmla="*/ 0 w 262080"/>
                    <a:gd name="textAreaRight" fmla="*/ 262440 w 262080"/>
                    <a:gd name="textAreaTop" fmla="*/ 0 h 376200"/>
                    <a:gd name="textAreaBottom" fmla="*/ 376560 h 376200"/>
                  </a:gdLst>
                  <a:ahLst/>
                  <a:rect l="textAreaLeft" t="textAreaTop" r="textAreaRight" b="textAreaBottom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" name="Group 24"/>
              <p:cNvGrpSpPr/>
              <p:nvPr/>
            </p:nvGrpSpPr>
            <p:grpSpPr>
              <a:xfrm>
                <a:off x="3673440" y="979560"/>
                <a:ext cx="3789360" cy="4390920"/>
                <a:chOff x="3673440" y="979560"/>
                <a:chExt cx="3789360" cy="4390920"/>
              </a:xfrm>
            </p:grpSpPr>
            <p:sp>
              <p:nvSpPr>
                <p:cNvPr id="23" name="Freeform 25"/>
                <p:cNvSpPr/>
                <p:nvPr/>
              </p:nvSpPr>
              <p:spPr>
                <a:xfrm>
                  <a:off x="3673440" y="2514600"/>
                  <a:ext cx="1884240" cy="2855880"/>
                </a:xfrm>
                <a:custGeom>
                  <a:avLst/>
                  <a:gdLst>
                    <a:gd name="textAreaLeft" fmla="*/ 0 w 1884240"/>
                    <a:gd name="textAreaRight" fmla="*/ 1884600 w 1884240"/>
                    <a:gd name="textAreaTop" fmla="*/ 0 h 2855880"/>
                    <a:gd name="textAreaBottom" fmla="*/ 2856240 h 2855880"/>
                  </a:gdLst>
                  <a:ahLst/>
                  <a:rect l="textAreaLeft" t="textAreaTop" r="textAreaRight" b="textAreaBottom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" name="Group 26"/>
                <p:cNvGrpSpPr/>
                <p:nvPr/>
              </p:nvGrpSpPr>
              <p:grpSpPr>
                <a:xfrm>
                  <a:off x="3801960" y="979560"/>
                  <a:ext cx="835200" cy="984240"/>
                  <a:chOff x="3801960" y="979560"/>
                  <a:chExt cx="835200" cy="984240"/>
                </a:xfrm>
              </p:grpSpPr>
              <p:grpSp>
                <p:nvGrpSpPr>
                  <p:cNvPr id="25" name="Group 27"/>
                  <p:cNvGrpSpPr/>
                  <p:nvPr/>
                </p:nvGrpSpPr>
                <p:grpSpPr>
                  <a:xfrm>
                    <a:off x="4132440" y="1593720"/>
                    <a:ext cx="261720" cy="370080"/>
                    <a:chOff x="4132440" y="1593720"/>
                    <a:chExt cx="261720" cy="370080"/>
                  </a:xfrm>
                </p:grpSpPr>
                <p:sp>
                  <p:nvSpPr>
                    <p:cNvPr id="26" name="Freeform 28"/>
                    <p:cNvSpPr/>
                    <p:nvPr/>
                  </p:nvSpPr>
                  <p:spPr>
                    <a:xfrm>
                      <a:off x="4132440" y="1728720"/>
                      <a:ext cx="123480" cy="209520"/>
                    </a:xfrm>
                    <a:custGeom>
                      <a:avLst/>
                      <a:gdLst>
                        <a:gd name="textAreaLeft" fmla="*/ 0 w 123480"/>
                        <a:gd name="textAreaRight" fmla="*/ 123840 w 123480"/>
                        <a:gd name="textAreaTop" fmla="*/ 0 h 209520"/>
                        <a:gd name="textAreaBottom" fmla="*/ 209880 h 209520"/>
                      </a:gdLst>
                      <a:ahLst/>
                      <a:rect l="textAreaLeft" t="textAreaTop" r="textAreaRight" b="textAreaBottom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Freeform 29"/>
                    <p:cNvSpPr/>
                    <p:nvPr/>
                  </p:nvSpPr>
                  <p:spPr>
                    <a:xfrm>
                      <a:off x="4245120" y="1593720"/>
                      <a:ext cx="149040" cy="370080"/>
                    </a:xfrm>
                    <a:custGeom>
                      <a:avLst/>
                      <a:gdLst>
                        <a:gd name="textAreaLeft" fmla="*/ 0 w 149040"/>
                        <a:gd name="textAreaRight" fmla="*/ 149400 w 149040"/>
                        <a:gd name="textAreaTop" fmla="*/ 0 h 370080"/>
                        <a:gd name="textAreaBottom" fmla="*/ 370440 h 370080"/>
                      </a:gdLst>
                      <a:ahLst/>
                      <a:rect l="textAreaLeft" t="textAreaTop" r="textAreaRight" b="textAreaBottom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" name="Freeform 30"/>
                  <p:cNvSpPr/>
                  <p:nvPr/>
                </p:nvSpPr>
                <p:spPr>
                  <a:xfrm>
                    <a:off x="3801960" y="979560"/>
                    <a:ext cx="835200" cy="619200"/>
                  </a:xfrm>
                  <a:custGeom>
                    <a:avLst/>
                    <a:gdLst>
                      <a:gd name="textAreaLeft" fmla="*/ 0 w 835200"/>
                      <a:gd name="textAreaRight" fmla="*/ 835560 w 835200"/>
                      <a:gd name="textAreaTop" fmla="*/ 0 h 619200"/>
                      <a:gd name="textAreaBottom" fmla="*/ 619560 h 619200"/>
                    </a:gdLst>
                    <a:ahLst/>
                    <a:rect l="textAreaLeft" t="textAreaTop" r="textAreaRight" b="textAreaBottom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" name="Freeform 31"/>
                <p:cNvSpPr/>
                <p:nvPr/>
              </p:nvSpPr>
              <p:spPr>
                <a:xfrm>
                  <a:off x="5276880" y="4468680"/>
                  <a:ext cx="250920" cy="600120"/>
                </a:xfrm>
                <a:custGeom>
                  <a:avLst/>
                  <a:gdLst>
                    <a:gd name="textAreaLeft" fmla="*/ 0 w 250920"/>
                    <a:gd name="textAreaRight" fmla="*/ 250920 w 250920"/>
                    <a:gd name="textAreaTop" fmla="*/ 0 h 600120"/>
                    <a:gd name="textAreaBottom" fmla="*/ 600480 h 600120"/>
                  </a:gdLst>
                  <a:ahLst/>
                  <a:rect l="textAreaLeft" t="textAreaTop" r="textAreaRight" b="textAreaBottom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4087800" y="1039680"/>
                  <a:ext cx="3375000" cy="2840040"/>
                </a:xfrm>
                <a:custGeom>
                  <a:avLst/>
                  <a:gdLst>
                    <a:gd name="textAreaLeft" fmla="*/ 0 w 3375000"/>
                    <a:gd name="textAreaRight" fmla="*/ 3375360 w 3375000"/>
                    <a:gd name="textAreaTop" fmla="*/ 0 h 2840040"/>
                    <a:gd name="textAreaBottom" fmla="*/ 2840040 h 2840040"/>
                  </a:gdLst>
                  <a:ahLst/>
                  <a:rect l="textAreaLeft" t="textAreaTop" r="textAreaRight" b="textAreaBottom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" name="Group 33"/>
            <p:cNvGrpSpPr/>
            <p:nvPr/>
          </p:nvGrpSpPr>
          <p:grpSpPr>
            <a:xfrm>
              <a:off x="146160" y="976320"/>
              <a:ext cx="2960640" cy="5256360"/>
              <a:chOff x="146160" y="976320"/>
              <a:chExt cx="2960640" cy="5256360"/>
            </a:xfrm>
          </p:grpSpPr>
          <p:sp>
            <p:nvSpPr>
              <p:cNvPr id="32" name="Freeform 34"/>
              <p:cNvSpPr/>
              <p:nvPr/>
            </p:nvSpPr>
            <p:spPr>
              <a:xfrm>
                <a:off x="146160" y="1208160"/>
                <a:ext cx="2003400" cy="2460600"/>
              </a:xfrm>
              <a:custGeom>
                <a:avLst/>
                <a:gdLst>
                  <a:gd name="textAreaLeft" fmla="*/ 0 w 2003400"/>
                  <a:gd name="textAreaRight" fmla="*/ 2003760 w 2003400"/>
                  <a:gd name="textAreaTop" fmla="*/ 0 h 2460600"/>
                  <a:gd name="textAreaBottom" fmla="*/ 2460960 h 2460600"/>
                </a:gdLst>
                <a:ahLst/>
                <a:rect l="textAreaLeft" t="textAreaTop" r="textAreaRight" b="textAreaBottom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1577880" y="976320"/>
                <a:ext cx="681120" cy="647640"/>
              </a:xfrm>
              <a:custGeom>
                <a:avLst/>
                <a:gdLst>
                  <a:gd name="textAreaLeft" fmla="*/ 0 w 681120"/>
                  <a:gd name="textAreaRight" fmla="*/ 681480 w 6811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441440" y="1203480"/>
                <a:ext cx="434880" cy="33336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1689120" y="3056040"/>
                <a:ext cx="309600" cy="15552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959120" y="3166920"/>
                <a:ext cx="204480" cy="131760"/>
              </a:xfrm>
              <a:custGeom>
                <a:avLst/>
                <a:gdLst>
                  <a:gd name="textAreaLeft" fmla="*/ 0 w 204480"/>
                  <a:gd name="textAreaRight" fmla="*/ 204840 w 20448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833480" y="3537000"/>
                <a:ext cx="1273320" cy="2695680"/>
              </a:xfrm>
              <a:custGeom>
                <a:avLst/>
                <a:gdLst>
                  <a:gd name="textAreaLeft" fmla="*/ 0 w 1273320"/>
                  <a:gd name="textAreaRight" fmla="*/ 1273680 w 1273320"/>
                  <a:gd name="textAreaTop" fmla="*/ 0 h 2695680"/>
                  <a:gd name="textAreaBottom" fmla="*/ 2696040 h 2695680"/>
                </a:gdLst>
                <a:ahLst/>
                <a:rect l="textAreaLeft" t="textAreaTop" r="textAreaRight" b="textAreaBottom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42E2-9F1A-42DF-943F-296C121A19AA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6699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2"/>
          <p:cNvGrpSpPr/>
          <p:nvPr/>
        </p:nvGrpSpPr>
        <p:grpSpPr>
          <a:xfrm>
            <a:off x="146160" y="138240"/>
            <a:ext cx="8835840" cy="5256000"/>
            <a:chOff x="146160" y="138240"/>
            <a:chExt cx="8835840" cy="5256000"/>
          </a:xfrm>
        </p:grpSpPr>
        <p:grpSp>
          <p:nvGrpSpPr>
            <p:cNvPr id="80" name="Group 3"/>
            <p:cNvGrpSpPr/>
            <p:nvPr/>
          </p:nvGrpSpPr>
          <p:grpSpPr>
            <a:xfrm>
              <a:off x="3673440" y="141120"/>
              <a:ext cx="5308560" cy="4889520"/>
              <a:chOff x="3673440" y="141120"/>
              <a:chExt cx="5308560" cy="4889520"/>
            </a:xfrm>
          </p:grpSpPr>
          <p:grpSp>
            <p:nvGrpSpPr>
              <p:cNvPr id="81" name="Group 4"/>
              <p:cNvGrpSpPr/>
              <p:nvPr/>
            </p:nvGrpSpPr>
            <p:grpSpPr>
              <a:xfrm>
                <a:off x="8201160" y="3249720"/>
                <a:ext cx="780840" cy="1780920"/>
                <a:chOff x="8201160" y="3249720"/>
                <a:chExt cx="780840" cy="1780920"/>
              </a:xfrm>
            </p:grpSpPr>
            <p:grpSp>
              <p:nvGrpSpPr>
                <p:cNvPr id="82" name="Group 5"/>
                <p:cNvGrpSpPr/>
                <p:nvPr/>
              </p:nvGrpSpPr>
              <p:grpSpPr>
                <a:xfrm>
                  <a:off x="8201160" y="4506840"/>
                  <a:ext cx="780840" cy="523800"/>
                  <a:chOff x="8201160" y="4506840"/>
                  <a:chExt cx="780840" cy="523800"/>
                </a:xfrm>
              </p:grpSpPr>
              <p:sp>
                <p:nvSpPr>
                  <p:cNvPr id="83" name="Freeform 6"/>
                  <p:cNvSpPr/>
                  <p:nvPr/>
                </p:nvSpPr>
                <p:spPr>
                  <a:xfrm>
                    <a:off x="8856720" y="4506840"/>
                    <a:ext cx="125280" cy="317520"/>
                  </a:xfrm>
                  <a:custGeom>
                    <a:avLst/>
                    <a:gdLst>
                      <a:gd name="textAreaLeft" fmla="*/ 0 w 125280"/>
                      <a:gd name="textAreaRight" fmla="*/ 125280 w 125280"/>
                      <a:gd name="textAreaTop" fmla="*/ 0 h 317520"/>
                      <a:gd name="textAreaBottom" fmla="*/ 317880 h 317520"/>
                    </a:gdLst>
                    <a:ahLst/>
                    <a:rect l="textAreaLeft" t="textAreaTop" r="textAreaRight" b="textAreaBottom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7"/>
                  <p:cNvSpPr/>
                  <p:nvPr/>
                </p:nvSpPr>
                <p:spPr>
                  <a:xfrm>
                    <a:off x="8616960" y="4761000"/>
                    <a:ext cx="231840" cy="269640"/>
                  </a:xfrm>
                  <a:custGeom>
                    <a:avLst/>
                    <a:gdLst>
                      <a:gd name="textAreaLeft" fmla="*/ 0 w 231840"/>
                      <a:gd name="textAreaRight" fmla="*/ 232200 w 23184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"/>
                  <p:cNvSpPr/>
                  <p:nvPr/>
                </p:nvSpPr>
                <p:spPr>
                  <a:xfrm>
                    <a:off x="8201160" y="4776840"/>
                    <a:ext cx="88920" cy="14292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142920"/>
                      <a:gd name="textAreaBottom" fmla="*/ 143280 h 142920"/>
                    </a:gdLst>
                    <a:ahLst/>
                    <a:rect l="textAreaLeft" t="textAreaTop" r="textAreaRight" b="textAreaBottom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" name="Freeform 9"/>
                <p:cNvSpPr/>
                <p:nvPr/>
              </p:nvSpPr>
              <p:spPr>
                <a:xfrm>
                  <a:off x="8359920" y="3249720"/>
                  <a:ext cx="141120" cy="16020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200"/>
                    <a:gd name="textAreaBottom" fmla="*/ 160560 h 16020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Group 10"/>
              <p:cNvGrpSpPr/>
              <p:nvPr/>
            </p:nvGrpSpPr>
            <p:grpSpPr>
              <a:xfrm>
                <a:off x="6815160" y="914400"/>
                <a:ext cx="1646280" cy="3798720"/>
                <a:chOff x="6815160" y="914400"/>
                <a:chExt cx="1646280" cy="3798720"/>
              </a:xfrm>
            </p:grpSpPr>
            <p:grpSp>
              <p:nvGrpSpPr>
                <p:cNvPr id="88" name="Group 11"/>
                <p:cNvGrpSpPr/>
                <p:nvPr/>
              </p:nvGrpSpPr>
              <p:grpSpPr>
                <a:xfrm>
                  <a:off x="7080120" y="1301760"/>
                  <a:ext cx="368280" cy="1141560"/>
                  <a:chOff x="7080120" y="1301760"/>
                  <a:chExt cx="368280" cy="1141560"/>
                </a:xfrm>
              </p:grpSpPr>
              <p:sp>
                <p:nvSpPr>
                  <p:cNvPr id="89" name="Freeform 12"/>
                  <p:cNvSpPr/>
                  <p:nvPr/>
                </p:nvSpPr>
                <p:spPr>
                  <a:xfrm>
                    <a:off x="7080120" y="2325600"/>
                    <a:ext cx="88920" cy="11772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117720"/>
                      <a:gd name="textAreaBottom" fmla="*/ 118080 h 117720"/>
                    </a:gdLst>
                    <a:ahLst/>
                    <a:rect l="textAreaLeft" t="textAreaTop" r="textAreaRight" b="textAreaBottom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13"/>
                  <p:cNvSpPr/>
                  <p:nvPr/>
                </p:nvSpPr>
                <p:spPr>
                  <a:xfrm>
                    <a:off x="7313760" y="2122560"/>
                    <a:ext cx="85680" cy="149040"/>
                  </a:xfrm>
                  <a:custGeom>
                    <a:avLst/>
                    <a:gdLst>
                      <a:gd name="textAreaLeft" fmla="*/ 0 w 85680"/>
                      <a:gd name="textAreaRight" fmla="*/ 85680 w 85680"/>
                      <a:gd name="textAreaTop" fmla="*/ 0 h 149040"/>
                      <a:gd name="textAreaBottom" fmla="*/ 149400 h 149040"/>
                    </a:gdLst>
                    <a:ahLst/>
                    <a:rect l="textAreaLeft" t="textAreaTop" r="textAreaRight" b="textAreaBottom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14"/>
                  <p:cNvSpPr/>
                  <p:nvPr/>
                </p:nvSpPr>
                <p:spPr>
                  <a:xfrm>
                    <a:off x="7297560" y="1301760"/>
                    <a:ext cx="150840" cy="138240"/>
                  </a:xfrm>
                  <a:custGeom>
                    <a:avLst/>
                    <a:gdLst>
                      <a:gd name="textAreaLeft" fmla="*/ 0 w 150840"/>
                      <a:gd name="textAreaRight" fmla="*/ 151200 w 150840"/>
                      <a:gd name="textAreaTop" fmla="*/ 0 h 138240"/>
                      <a:gd name="textAreaBottom" fmla="*/ 138240 h 138240"/>
                    </a:gdLst>
                    <a:ahLst/>
                    <a:rect l="textAreaLeft" t="textAreaTop" r="textAreaRight" b="textAreaBottom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" name="Freeform 15"/>
                <p:cNvSpPr/>
                <p:nvPr/>
              </p:nvSpPr>
              <p:spPr>
                <a:xfrm>
                  <a:off x="7423200" y="3611520"/>
                  <a:ext cx="1038240" cy="1101600"/>
                </a:xfrm>
                <a:custGeom>
                  <a:avLst/>
                  <a:gdLst>
                    <a:gd name="textAreaLeft" fmla="*/ 0 w 1038240"/>
                    <a:gd name="textAreaRight" fmla="*/ 1038600 w 1038240"/>
                    <a:gd name="textAreaTop" fmla="*/ 0 h 1101600"/>
                    <a:gd name="textAreaBottom" fmla="*/ 1101960 h 1101600"/>
                  </a:gdLst>
                  <a:ahLst/>
                  <a:rect l="textAreaLeft" t="textAreaTop" r="textAreaRight" b="textAreaBottom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16"/>
                <p:cNvSpPr/>
                <p:nvPr/>
              </p:nvSpPr>
              <p:spPr>
                <a:xfrm>
                  <a:off x="7180200" y="3373560"/>
                  <a:ext cx="576360" cy="150840"/>
                </a:xfrm>
                <a:custGeom>
                  <a:avLst/>
                  <a:gdLst>
                    <a:gd name="textAreaLeft" fmla="*/ 0 w 576360"/>
                    <a:gd name="textAreaRight" fmla="*/ 576720 w 57636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17"/>
                <p:cNvSpPr/>
                <p:nvPr/>
              </p:nvSpPr>
              <p:spPr>
                <a:xfrm>
                  <a:off x="7494480" y="3079800"/>
                  <a:ext cx="262080" cy="288720"/>
                </a:xfrm>
                <a:custGeom>
                  <a:avLst/>
                  <a:gdLst>
                    <a:gd name="textAreaLeft" fmla="*/ 0 w 262080"/>
                    <a:gd name="textAreaRight" fmla="*/ 262440 w 262080"/>
                    <a:gd name="textAreaTop" fmla="*/ 0 h 288720"/>
                    <a:gd name="textAreaBottom" fmla="*/ 289080 h 288720"/>
                  </a:gdLst>
                  <a:ahLst/>
                  <a:rect l="textAreaLeft" t="textAreaTop" r="textAreaRight" b="textAreaBottom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18"/>
                <p:cNvSpPr/>
                <p:nvPr/>
              </p:nvSpPr>
              <p:spPr>
                <a:xfrm>
                  <a:off x="7221600" y="2951280"/>
                  <a:ext cx="288720" cy="39528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395280"/>
                    <a:gd name="textAreaBottom" fmla="*/ 395640 h 395280"/>
                  </a:gdLst>
                  <a:ahLst/>
                  <a:rect l="textAreaLeft" t="textAreaTop" r="textAreaRight" b="textAreaBottom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19"/>
                <p:cNvSpPr/>
                <p:nvPr/>
              </p:nvSpPr>
              <p:spPr>
                <a:xfrm>
                  <a:off x="7832880" y="3176640"/>
                  <a:ext cx="552240" cy="37296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372960"/>
                    <a:gd name="textAreaBottom" fmla="*/ 373320 h 372960"/>
                  </a:gdLst>
                  <a:ahLst/>
                  <a:rect l="textAreaLeft" t="textAreaTop" r="textAreaRight" b="textAreaBottom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0"/>
                <p:cNvSpPr/>
                <p:nvPr/>
              </p:nvSpPr>
              <p:spPr>
                <a:xfrm>
                  <a:off x="6815160" y="2911320"/>
                  <a:ext cx="331920" cy="492120"/>
                </a:xfrm>
                <a:custGeom>
                  <a:avLst/>
                  <a:gdLst>
                    <a:gd name="textAreaLeft" fmla="*/ 0 w 331920"/>
                    <a:gd name="textAreaRight" fmla="*/ 332280 w 331920"/>
                    <a:gd name="textAreaTop" fmla="*/ 0 h 492120"/>
                    <a:gd name="textAreaBottom" fmla="*/ 492480 h 492120"/>
                  </a:gdLst>
                  <a:ahLst/>
                  <a:rect l="textAreaLeft" t="textAreaTop" r="textAreaRight" b="textAreaBottom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1"/>
                <p:cNvSpPr/>
                <p:nvPr/>
              </p:nvSpPr>
              <p:spPr>
                <a:xfrm>
                  <a:off x="7404120" y="2382840"/>
                  <a:ext cx="325440" cy="541440"/>
                </a:xfrm>
                <a:custGeom>
                  <a:avLst/>
                  <a:gdLst>
                    <a:gd name="textAreaLeft" fmla="*/ 0 w 325440"/>
                    <a:gd name="textAreaRight" fmla="*/ 325800 w 325440"/>
                    <a:gd name="textAreaTop" fmla="*/ 0 h 541440"/>
                    <a:gd name="textAreaBottom" fmla="*/ 541440 h 541440"/>
                  </a:gdLst>
                  <a:ahLst/>
                  <a:rect l="textAreaLeft" t="textAreaTop" r="textAreaRight" b="textAreaBottom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Freeform 22"/>
                <p:cNvSpPr/>
                <p:nvPr/>
              </p:nvSpPr>
              <p:spPr>
                <a:xfrm>
                  <a:off x="7332840" y="1467000"/>
                  <a:ext cx="237960" cy="458640"/>
                </a:xfrm>
                <a:custGeom>
                  <a:avLst/>
                  <a:gdLst>
                    <a:gd name="textAreaLeft" fmla="*/ 0 w 237960"/>
                    <a:gd name="textAreaRight" fmla="*/ 238320 w 237960"/>
                    <a:gd name="textAreaTop" fmla="*/ 0 h 458640"/>
                    <a:gd name="textAreaBottom" fmla="*/ 459000 h 458640"/>
                  </a:gdLst>
                  <a:ahLst/>
                  <a:rect l="textAreaLeft" t="textAreaTop" r="textAreaRight" b="textAreaBottom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Freeform 23"/>
                <p:cNvSpPr/>
                <p:nvPr/>
              </p:nvSpPr>
              <p:spPr>
                <a:xfrm>
                  <a:off x="7061040" y="914400"/>
                  <a:ext cx="262080" cy="376200"/>
                </a:xfrm>
                <a:custGeom>
                  <a:avLst/>
                  <a:gdLst>
                    <a:gd name="textAreaLeft" fmla="*/ 0 w 262080"/>
                    <a:gd name="textAreaRight" fmla="*/ 262440 w 262080"/>
                    <a:gd name="textAreaTop" fmla="*/ 0 h 376200"/>
                    <a:gd name="textAreaBottom" fmla="*/ 376560 h 376200"/>
                  </a:gdLst>
                  <a:ahLst/>
                  <a:rect l="textAreaLeft" t="textAreaTop" r="textAreaRight" b="textAreaBottom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Group 24"/>
              <p:cNvGrpSpPr/>
              <p:nvPr/>
            </p:nvGrpSpPr>
            <p:grpSpPr>
              <a:xfrm>
                <a:off x="3673440" y="141120"/>
                <a:ext cx="3789360" cy="4391280"/>
                <a:chOff x="3673440" y="141120"/>
                <a:chExt cx="3789360" cy="4391280"/>
              </a:xfrm>
            </p:grpSpPr>
            <p:sp>
              <p:nvSpPr>
                <p:cNvPr id="102" name="Freeform 25"/>
                <p:cNvSpPr/>
                <p:nvPr/>
              </p:nvSpPr>
              <p:spPr>
                <a:xfrm>
                  <a:off x="3673440" y="1676520"/>
                  <a:ext cx="1884240" cy="2855880"/>
                </a:xfrm>
                <a:custGeom>
                  <a:avLst/>
                  <a:gdLst>
                    <a:gd name="textAreaLeft" fmla="*/ 0 w 1884240"/>
                    <a:gd name="textAreaRight" fmla="*/ 1884600 w 1884240"/>
                    <a:gd name="textAreaTop" fmla="*/ 0 h 2855880"/>
                    <a:gd name="textAreaBottom" fmla="*/ 2856240 h 2855880"/>
                  </a:gdLst>
                  <a:ahLst/>
                  <a:rect l="textAreaLeft" t="textAreaTop" r="textAreaRight" b="textAreaBottom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" name="Group 26"/>
                <p:cNvGrpSpPr/>
                <p:nvPr/>
              </p:nvGrpSpPr>
              <p:grpSpPr>
                <a:xfrm>
                  <a:off x="3801960" y="141120"/>
                  <a:ext cx="835200" cy="984240"/>
                  <a:chOff x="3801960" y="141120"/>
                  <a:chExt cx="835200" cy="984240"/>
                </a:xfrm>
              </p:grpSpPr>
              <p:grpSp>
                <p:nvGrpSpPr>
                  <p:cNvPr id="104" name="Group 27"/>
                  <p:cNvGrpSpPr/>
                  <p:nvPr/>
                </p:nvGrpSpPr>
                <p:grpSpPr>
                  <a:xfrm>
                    <a:off x="4132440" y="755640"/>
                    <a:ext cx="261720" cy="369720"/>
                    <a:chOff x="4132440" y="755640"/>
                    <a:chExt cx="261720" cy="369720"/>
                  </a:xfrm>
                </p:grpSpPr>
                <p:sp>
                  <p:nvSpPr>
                    <p:cNvPr id="105" name="Freeform 28"/>
                    <p:cNvSpPr/>
                    <p:nvPr/>
                  </p:nvSpPr>
                  <p:spPr>
                    <a:xfrm>
                      <a:off x="4132440" y="890640"/>
                      <a:ext cx="123480" cy="209520"/>
                    </a:xfrm>
                    <a:custGeom>
                      <a:avLst/>
                      <a:gdLst>
                        <a:gd name="textAreaLeft" fmla="*/ 0 w 123480"/>
                        <a:gd name="textAreaRight" fmla="*/ 123840 w 123480"/>
                        <a:gd name="textAreaTop" fmla="*/ 0 h 209520"/>
                        <a:gd name="textAreaBottom" fmla="*/ 209880 h 209520"/>
                      </a:gdLst>
                      <a:ahLst/>
                      <a:rect l="textAreaLeft" t="textAreaTop" r="textAreaRight" b="textAreaBottom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Freeform 29"/>
                    <p:cNvSpPr/>
                    <p:nvPr/>
                  </p:nvSpPr>
                  <p:spPr>
                    <a:xfrm>
                      <a:off x="4245120" y="755640"/>
                      <a:ext cx="149040" cy="369720"/>
                    </a:xfrm>
                    <a:custGeom>
                      <a:avLst/>
                      <a:gdLst>
                        <a:gd name="textAreaLeft" fmla="*/ 0 w 149040"/>
                        <a:gd name="textAreaRight" fmla="*/ 149400 w 149040"/>
                        <a:gd name="textAreaTop" fmla="*/ 0 h 369720"/>
                        <a:gd name="textAreaBottom" fmla="*/ 370080 h 369720"/>
                      </a:gdLst>
                      <a:ahLst/>
                      <a:rect l="textAreaLeft" t="textAreaTop" r="textAreaRight" b="textAreaBottom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7" name="Freeform 30"/>
                  <p:cNvSpPr/>
                  <p:nvPr/>
                </p:nvSpPr>
                <p:spPr>
                  <a:xfrm>
                    <a:off x="3801960" y="141120"/>
                    <a:ext cx="835200" cy="619200"/>
                  </a:xfrm>
                  <a:custGeom>
                    <a:avLst/>
                    <a:gdLst>
                      <a:gd name="textAreaLeft" fmla="*/ 0 w 835200"/>
                      <a:gd name="textAreaRight" fmla="*/ 835560 w 835200"/>
                      <a:gd name="textAreaTop" fmla="*/ 0 h 619200"/>
                      <a:gd name="textAreaBottom" fmla="*/ 619560 h 619200"/>
                    </a:gdLst>
                    <a:ahLst/>
                    <a:rect l="textAreaLeft" t="textAreaTop" r="textAreaRight" b="textAreaBottom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" name="Freeform 31"/>
                <p:cNvSpPr/>
                <p:nvPr/>
              </p:nvSpPr>
              <p:spPr>
                <a:xfrm>
                  <a:off x="5276880" y="3630600"/>
                  <a:ext cx="250920" cy="600120"/>
                </a:xfrm>
                <a:custGeom>
                  <a:avLst/>
                  <a:gdLst>
                    <a:gd name="textAreaLeft" fmla="*/ 0 w 250920"/>
                    <a:gd name="textAreaRight" fmla="*/ 250920 w 250920"/>
                    <a:gd name="textAreaTop" fmla="*/ 0 h 600120"/>
                    <a:gd name="textAreaBottom" fmla="*/ 600480 h 600120"/>
                  </a:gdLst>
                  <a:ahLst/>
                  <a:rect l="textAreaLeft" t="textAreaTop" r="textAreaRight" b="textAreaBottom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Freeform 32"/>
                <p:cNvSpPr/>
                <p:nvPr/>
              </p:nvSpPr>
              <p:spPr>
                <a:xfrm>
                  <a:off x="4087800" y="201600"/>
                  <a:ext cx="3375000" cy="2840040"/>
                </a:xfrm>
                <a:custGeom>
                  <a:avLst/>
                  <a:gdLst>
                    <a:gd name="textAreaLeft" fmla="*/ 0 w 3375000"/>
                    <a:gd name="textAreaRight" fmla="*/ 3375360 w 3375000"/>
                    <a:gd name="textAreaTop" fmla="*/ 0 h 2840040"/>
                    <a:gd name="textAreaBottom" fmla="*/ 2840040 h 2840040"/>
                  </a:gdLst>
                  <a:ahLst/>
                  <a:rect l="textAreaLeft" t="textAreaTop" r="textAreaRight" b="textAreaBottom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" name="Group 33"/>
            <p:cNvGrpSpPr/>
            <p:nvPr/>
          </p:nvGrpSpPr>
          <p:grpSpPr>
            <a:xfrm>
              <a:off x="146160" y="138240"/>
              <a:ext cx="2960640" cy="5256000"/>
              <a:chOff x="146160" y="138240"/>
              <a:chExt cx="2960640" cy="5256000"/>
            </a:xfrm>
          </p:grpSpPr>
          <p:sp>
            <p:nvSpPr>
              <p:cNvPr id="111" name="Freeform 34"/>
              <p:cNvSpPr/>
              <p:nvPr/>
            </p:nvSpPr>
            <p:spPr>
              <a:xfrm>
                <a:off x="146160" y="369720"/>
                <a:ext cx="2003400" cy="2460960"/>
              </a:xfrm>
              <a:custGeom>
                <a:avLst/>
                <a:gdLst>
                  <a:gd name="textAreaLeft" fmla="*/ 0 w 2003400"/>
                  <a:gd name="textAreaRight" fmla="*/ 2003760 w 2003400"/>
                  <a:gd name="textAreaTop" fmla="*/ 0 h 2460960"/>
                  <a:gd name="textAreaBottom" fmla="*/ 2461320 h 2460960"/>
                </a:gdLst>
                <a:ahLst/>
                <a:rect l="textAreaLeft" t="textAreaTop" r="textAreaRight" b="textAreaBottom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12" name="Freeform 35"/>
              <p:cNvSpPr/>
              <p:nvPr/>
            </p:nvSpPr>
            <p:spPr>
              <a:xfrm>
                <a:off x="1577880" y="138240"/>
                <a:ext cx="681120" cy="647640"/>
              </a:xfrm>
              <a:custGeom>
                <a:avLst/>
                <a:gdLst>
                  <a:gd name="textAreaLeft" fmla="*/ 0 w 681120"/>
                  <a:gd name="textAreaRight" fmla="*/ 681480 w 6811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13" name="Freeform 36"/>
              <p:cNvSpPr/>
              <p:nvPr/>
            </p:nvSpPr>
            <p:spPr>
              <a:xfrm>
                <a:off x="1441440" y="365040"/>
                <a:ext cx="434880" cy="33336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14" name="Freeform 37"/>
              <p:cNvSpPr/>
              <p:nvPr/>
            </p:nvSpPr>
            <p:spPr>
              <a:xfrm>
                <a:off x="1689120" y="2217600"/>
                <a:ext cx="309600" cy="15588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155880"/>
                  <a:gd name="textAreaBottom" fmla="*/ 156240 h 155880"/>
                </a:gdLst>
                <a:ahLst/>
                <a:rect l="textAreaLeft" t="textAreaTop" r="textAreaRight" b="textAreaBottom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15" name="Freeform 38"/>
              <p:cNvSpPr/>
              <p:nvPr/>
            </p:nvSpPr>
            <p:spPr>
              <a:xfrm>
                <a:off x="1959120" y="2328840"/>
                <a:ext cx="204480" cy="131760"/>
              </a:xfrm>
              <a:custGeom>
                <a:avLst/>
                <a:gdLst>
                  <a:gd name="textAreaLeft" fmla="*/ 0 w 204480"/>
                  <a:gd name="textAreaRight" fmla="*/ 204840 w 20448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16" name="Freeform 39"/>
              <p:cNvSpPr/>
              <p:nvPr/>
            </p:nvSpPr>
            <p:spPr>
              <a:xfrm>
                <a:off x="1833480" y="2698920"/>
                <a:ext cx="1273320" cy="2695320"/>
              </a:xfrm>
              <a:custGeom>
                <a:avLst/>
                <a:gdLst>
                  <a:gd name="textAreaLeft" fmla="*/ 0 w 1273320"/>
                  <a:gd name="textAreaRight" fmla="*/ 1273680 w 1273320"/>
                  <a:gd name="textAreaTop" fmla="*/ 0 h 2695320"/>
                  <a:gd name="textAreaBottom" fmla="*/ 2695680 h 2695320"/>
                </a:gdLst>
                <a:ahLst/>
                <a:rect l="textAreaLeft" t="textAreaTop" r="textAreaRight" b="textAreaBottom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D494-A2F1-4EB5-A2B5-5BA3AE306A40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enjaminschool.com/hagy1/webpages/life_in_the_colonies.htm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hyperlink" Target="http://alumni.cc.gettysburg.edu/~s330558/schooling.html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5240" y="2895120"/>
            <a:ext cx="8202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13 COLONIES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ife in the Coloni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Puritans had their own laws for</a:t>
            </a:r>
            <a:r>
              <a:rPr b="0" lang="en-US" sz="2800" spc="-1" strike="noStrike" u="sng">
                <a:solidFill>
                  <a:srgbClr val="ff7c80"/>
                </a:solidFill>
                <a:uFillTx/>
                <a:latin typeface="Times New Roman"/>
                <a:hlinkClick r:id="rId1"/>
              </a:rPr>
              <a:t> Courtship.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2" name="Picture 4" descr="E:\house.gif"/>
          <p:cNvPicPr/>
          <p:nvPr/>
        </p:nvPicPr>
        <p:blipFill>
          <a:blip r:embed="rId2"/>
          <a:stretch/>
        </p:blipFill>
        <p:spPr>
          <a:xfrm>
            <a:off x="685800" y="2638440"/>
            <a:ext cx="380988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82720" y="0"/>
            <a:ext cx="46609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iddle Coloni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876560" y="2106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Middle colonies included: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fff6"/>
                </a:solidFill>
                <a:latin typeface="Arial"/>
              </a:rPr>
              <a:t>New York (NY)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, </a:t>
            </a:r>
            <a:r>
              <a:rPr b="0" lang="en-US" sz="2800" spc="-1" strike="noStrike">
                <a:solidFill>
                  <a:srgbClr val="2f8b20"/>
                </a:solidFill>
                <a:latin typeface="Arial"/>
              </a:rPr>
              <a:t>New Jersey (NJ)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, 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Delaware (DE)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ff7518"/>
                </a:solidFill>
                <a:latin typeface="Arial"/>
              </a:rPr>
              <a:t>Pennsylvania (PA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1219680" y="5867280"/>
            <a:ext cx="777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icture Credit: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ttp://www.socialstudiesforkids.com/graphics/13mapnew.htm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206" name="Picture 10" descr="&#9;13map.gif                                                      00024311&#13;Private Files                  B82C3CDE:"/>
          <p:cNvPicPr/>
          <p:nvPr/>
        </p:nvPicPr>
        <p:blipFill>
          <a:blip r:embed="rId1"/>
          <a:stretch/>
        </p:blipFill>
        <p:spPr>
          <a:xfrm>
            <a:off x="0" y="0"/>
            <a:ext cx="4483080" cy="63054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1"/>
          <p:cNvSpPr/>
          <p:nvPr/>
        </p:nvSpPr>
        <p:spPr>
          <a:xfrm>
            <a:off x="2317320" y="17524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NY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2418480" y="26780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NJ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2942280" y="37069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DE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0" name="Line 15"/>
          <p:cNvSpPr/>
          <p:nvPr/>
        </p:nvSpPr>
        <p:spPr>
          <a:xfrm>
            <a:off x="2416320" y="3249720"/>
            <a:ext cx="523800" cy="685800"/>
          </a:xfrm>
          <a:prstGeom prst="line">
            <a:avLst/>
          </a:prstGeom>
          <a:ln cap="sq"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1837800" y="244944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PA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840200" y="2044440"/>
            <a:ext cx="43610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Good farming land (grains) Livestock, rivers and hills. Harbors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4" name="Picture 6" descr="_x0011_lanc_farmland.jpg                                              00024311&#13;Private Files                  B82C3CDE:"/>
          <p:cNvPicPr/>
          <p:nvPr/>
        </p:nvPicPr>
        <p:blipFill>
          <a:blip r:embed="rId1"/>
          <a:stretch/>
        </p:blipFill>
        <p:spPr>
          <a:xfrm>
            <a:off x="0" y="2044800"/>
            <a:ext cx="4840200" cy="33494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7"/>
          <p:cNvSpPr/>
          <p:nvPr/>
        </p:nvSpPr>
        <p:spPr>
          <a:xfrm>
            <a:off x="129240" y="5394240"/>
            <a:ext cx="86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icture Credit: </a:t>
            </a: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www.greenworks.tv/efp/ Lan_Farm_Trust.htm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eople Group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People came from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Germany, Scotland &amp; Ireland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Quakers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(plain living, peaceful, against slavery and dancing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German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 (Pennsylvania Dutch, skilled workers and loved music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Scotch-Irish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 farmed and hunted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8" name="Picture 6" descr="_x0006_images                                                         00024311&#13;Private Files                  B82C3CDE:"/>
          <p:cNvPicPr/>
          <p:nvPr/>
        </p:nvPicPr>
        <p:blipFill>
          <a:blip r:embed="rId1"/>
          <a:stretch/>
        </p:blipFill>
        <p:spPr>
          <a:xfrm>
            <a:off x="0" y="2116080"/>
            <a:ext cx="4495680" cy="34178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8"/>
          <p:cNvSpPr/>
          <p:nvPr/>
        </p:nvSpPr>
        <p:spPr>
          <a:xfrm>
            <a:off x="132840" y="6251400"/>
            <a:ext cx="67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icture Credit: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ww.lmce.com/~marko/ celtic.html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teresting Facts about Middle Coloni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Called Breadbasket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 of Colonial America. The farmers raised a surplus so they could sell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Germans invented Pennsylvania rifle &amp; Conestoga wago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-Philadelphia means brotherly lov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128160" y="6251400"/>
            <a:ext cx="853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icture Credit: </a:t>
            </a: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www.si.edu/resource/faq/ nmah/carriage.htm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223" name="Picture 7" descr="&#10;CONSTG.gif                                                     00024311&#13;Private Files                  B82C3CDE:"/>
          <p:cNvPicPr/>
          <p:nvPr/>
        </p:nvPicPr>
        <p:blipFill>
          <a:blip r:embed="rId1"/>
          <a:stretch/>
        </p:blipFill>
        <p:spPr>
          <a:xfrm>
            <a:off x="685800" y="2411280"/>
            <a:ext cx="380988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lliam Pen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-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William Penn owned Pennsylvania and made it a place for religious freedom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50120" y="6251400"/>
            <a:ext cx="84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Picture Credit: http://www.legis.state.pa.us/WU01/VC/visitor_info/hello_pennsylvania/paprofile.htm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227" name="Picture 7" descr="_x0010_william_penn.jpg                                               00024311&#13;Private Files                  B82C3CDE:"/>
          <p:cNvPicPr/>
          <p:nvPr/>
        </p:nvPicPr>
        <p:blipFill>
          <a:blip r:embed="rId1"/>
          <a:stretch/>
        </p:blipFill>
        <p:spPr>
          <a:xfrm>
            <a:off x="774720" y="2044800"/>
            <a:ext cx="307980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79760" y="762120"/>
            <a:ext cx="4764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uthern Coloni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3760" y="2514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Southern Colonies included: </a:t>
            </a:r>
            <a:r>
              <a:rPr b="0" lang="en-US" sz="2800" spc="-1" strike="noStrike">
                <a:solidFill>
                  <a:srgbClr val="7465dc"/>
                </a:solidFill>
                <a:latin typeface="Arial"/>
                <a:ea typeface="Arial"/>
              </a:rPr>
              <a:t>Maryland (MD),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cdc7c2"/>
                </a:solidFill>
                <a:latin typeface="Arial"/>
                <a:ea typeface="Arial"/>
              </a:rPr>
              <a:t>Virginia (VA),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5da31e"/>
                </a:solidFill>
                <a:latin typeface="Arial"/>
                <a:ea typeface="Arial"/>
              </a:rPr>
              <a:t>North Carolina (NC),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bf56"/>
                </a:solidFill>
                <a:latin typeface="Arial"/>
                <a:ea typeface="Arial"/>
              </a:rPr>
              <a:t>South Carolina (SC),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 and </a:t>
            </a:r>
            <a:r>
              <a:rPr b="0" lang="en-US" sz="2800" spc="-1" strike="noStrike">
                <a:solidFill>
                  <a:srgbClr val="be844a"/>
                </a:solidFill>
                <a:latin typeface="Arial"/>
                <a:ea typeface="Arial"/>
              </a:rPr>
              <a:t>Georgia (GA).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0" name="Picture 6" descr="&#9;south.gif                                                      00024311&#13;Private Files                  B82C3CDE:"/>
          <p:cNvPicPr/>
          <p:nvPr/>
        </p:nvPicPr>
        <p:blipFill>
          <a:blip r:embed="rId1"/>
          <a:stretch/>
        </p:blipFill>
        <p:spPr>
          <a:xfrm>
            <a:off x="0" y="0"/>
            <a:ext cx="4379760" cy="56707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7"/>
          <p:cNvSpPr/>
          <p:nvPr/>
        </p:nvSpPr>
        <p:spPr>
          <a:xfrm>
            <a:off x="1495440" y="0"/>
            <a:ext cx="6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MD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2171880" y="228600"/>
            <a:ext cx="1355400" cy="0"/>
          </a:xfrm>
          <a:prstGeom prst="line">
            <a:avLst/>
          </a:prstGeom>
          <a:ln cap="sq"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2800080" y="84600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VA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2797200" y="220968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NC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1497600" y="30481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SC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453600" y="350532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GA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uthern Colonies Climat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ich land, plenty of rain &amp; a long growing season. Coastal plains, swamps, forests, harbors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9" name="Picture 6" descr="_x000e_plantation.jpg                                                 00024311&#13;Private Files                  B82C3CDE:"/>
          <p:cNvPicPr/>
          <p:nvPr/>
        </p:nvPicPr>
        <p:blipFill>
          <a:blip r:embed="rId1"/>
          <a:stretch/>
        </p:blipFill>
        <p:spPr>
          <a:xfrm>
            <a:off x="685800" y="2554200"/>
            <a:ext cx="3809880" cy="29685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7"/>
          <p:cNvSpPr/>
          <p:nvPr/>
        </p:nvSpPr>
        <p:spPr>
          <a:xfrm>
            <a:off x="473040" y="5675400"/>
            <a:ext cx="733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icture Credit: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ww.ipgri.cgiar.org/networks/ cogent/gallery.htm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eople Group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Maryland was a safe place for Roman Catholic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South Carolina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 settled by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French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Georgia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 founded by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Oglethorp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 for new start for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debtors in England.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3" name="Picture 6" descr="&#10;people.JPG                                                     00024311&#13;Private Files                  B82C3CDE:"/>
          <p:cNvPicPr/>
          <p:nvPr/>
        </p:nvPicPr>
        <p:blipFill>
          <a:blip r:embed="rId1"/>
          <a:stretch/>
        </p:blipFill>
        <p:spPr>
          <a:xfrm>
            <a:off x="0" y="2044800"/>
            <a:ext cx="4495680" cy="3789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7"/>
          <p:cNvSpPr/>
          <p:nvPr/>
        </p:nvSpPr>
        <p:spPr>
          <a:xfrm>
            <a:off x="128520" y="5834160"/>
            <a:ext cx="7671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icture Credit: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www.brighthand.com/html/ bhand/usergroups.html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teresting Facts about Southern Coloni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-Planters’ duties to see that crops were planted, records kept, took care of everyone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Slavery was necessary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 for Southern plantatio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The cash crop for Virginia was Tobacc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7" name="Picture 6" descr="_x000c_cfield1s.jpg                                                   00024311&#13;Private Files                  B82C3CDE:"/>
          <p:cNvPicPr/>
          <p:nvPr/>
        </p:nvPicPr>
        <p:blipFill>
          <a:blip r:embed="rId1"/>
          <a:stretch/>
        </p:blipFill>
        <p:spPr>
          <a:xfrm>
            <a:off x="0" y="2514600"/>
            <a:ext cx="4670280" cy="31305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7"/>
          <p:cNvSpPr/>
          <p:nvPr/>
        </p:nvSpPr>
        <p:spPr>
          <a:xfrm>
            <a:off x="124560" y="6102360"/>
            <a:ext cx="752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icture Credit: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www.lattaplantation.org/ website.htm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New England Coloni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61" name="Object 3"/>
          <p:cNvGraphicFramePr/>
          <p:nvPr/>
        </p:nvGraphicFramePr>
        <p:xfrm>
          <a:off x="3216240" y="1998720"/>
          <a:ext cx="2478240" cy="37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16240" y="1998720"/>
                    <a:ext cx="2478240" cy="3794040"/>
                  </a:xfrm>
                  <a:prstGeom prst="rect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3" name="Text Box 10"/>
          <p:cNvSpPr/>
          <p:nvPr/>
        </p:nvSpPr>
        <p:spPr>
          <a:xfrm>
            <a:off x="5867280" y="2438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ssachusetts (Maine)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5791320" y="3886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w Hampshire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6019920" y="548964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hode Island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1143000" y="5181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necticut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914400" y="4343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ssachusett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304920" y="6095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icture Credit: http://www.fcps.k12.va.us/OakViewES/harris/97-98/america/colonization/colonies-ne/ne-intro.html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9" name="Line 22"/>
          <p:cNvSpPr/>
          <p:nvPr/>
        </p:nvSpPr>
        <p:spPr>
          <a:xfrm flipH="1">
            <a:off x="5143680" y="2857680"/>
            <a:ext cx="723600" cy="0"/>
          </a:xfrm>
          <a:prstGeom prst="line">
            <a:avLst/>
          </a:prstGeom>
          <a:ln cap="sq" w="38160">
            <a:solidFill>
              <a:srgbClr val="3366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0" name="Line 24"/>
          <p:cNvSpPr/>
          <p:nvPr/>
        </p:nvSpPr>
        <p:spPr>
          <a:xfrm flipV="1">
            <a:off x="4121280" y="4114800"/>
            <a:ext cx="1746000" cy="457200"/>
          </a:xfrm>
          <a:prstGeom prst="line">
            <a:avLst/>
          </a:prstGeom>
          <a:ln cap="sq"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1" name="Line 25"/>
          <p:cNvSpPr/>
          <p:nvPr/>
        </p:nvSpPr>
        <p:spPr>
          <a:xfrm>
            <a:off x="2819520" y="4800600"/>
            <a:ext cx="838080" cy="228600"/>
          </a:xfrm>
          <a:prstGeom prst="line">
            <a:avLst/>
          </a:prstGeom>
          <a:ln cap="sq"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2" name="Line 26"/>
          <p:cNvSpPr/>
          <p:nvPr/>
        </p:nvSpPr>
        <p:spPr>
          <a:xfrm>
            <a:off x="2819520" y="5410080"/>
            <a:ext cx="838080" cy="0"/>
          </a:xfrm>
          <a:prstGeom prst="line">
            <a:avLst/>
          </a:prstGeom>
          <a:ln cap="sq"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3" name="Line 27"/>
          <p:cNvSpPr/>
          <p:nvPr/>
        </p:nvSpPr>
        <p:spPr>
          <a:xfrm>
            <a:off x="4349880" y="5410080"/>
            <a:ext cx="1670040" cy="457200"/>
          </a:xfrm>
          <a:prstGeom prst="line">
            <a:avLst/>
          </a:prstGeom>
          <a:ln cap="sq"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easons for coming to the USA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me people didn’t like the Church of Englan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y wanted the Church to be more pure.  These people were called Puritans.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y decided to start a colony in the North East part of the US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6" name="Picture 4" descr="E:\head.gif"/>
          <p:cNvPicPr/>
          <p:nvPr/>
        </p:nvPicPr>
        <p:blipFill>
          <a:blip r:embed="rId1"/>
          <a:stretch/>
        </p:blipFill>
        <p:spPr>
          <a:xfrm>
            <a:off x="750960" y="1981080"/>
            <a:ext cx="367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ettling in Massachuset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ohn Winthrop was the leader of the Puritan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ssachusetts means at or near the great hill  in Algonkian, Native American languag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colony’s first settlement was Boston along the Charles River.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9" name="Picture 4" descr="E:\winthrop.jpg"/>
          <p:cNvPicPr/>
          <p:nvPr/>
        </p:nvPicPr>
        <p:blipFill>
          <a:blip r:embed="rId1"/>
          <a:stretch/>
        </p:blipFill>
        <p:spPr>
          <a:xfrm>
            <a:off x="870120" y="1981080"/>
            <a:ext cx="3439800" cy="41148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0" y="594360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icture Credit: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ttp://www.gonzaga.edu/faculty/campbell/enl310/winthrop.htm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lonial Lif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82" name="Object 3"/>
          <p:cNvGraphicFramePr/>
          <p:nvPr/>
        </p:nvGraphicFramePr>
        <p:xfrm>
          <a:off x="1033560" y="1981080"/>
          <a:ext cx="31147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3560" y="1981080"/>
                    <a:ext cx="3114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ssachusetts and Connecticut had laws saying that if there were 50 families, a teacher needed to be hired and a school setup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se schools were called </a:t>
            </a:r>
            <a:r>
              <a:rPr b="0" lang="en-US" sz="2800" spc="-1" strike="noStrike" u="sng">
                <a:solidFill>
                  <a:srgbClr val="ff7c80"/>
                </a:solidFill>
                <a:uFillTx/>
                <a:latin typeface="Times New Roman"/>
                <a:hlinkClick r:id="rId3"/>
              </a:rPr>
              <a:t>grammar or writing school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0" y="585324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icture Credit: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ttp://alumni.cc.gettysburg.edu/~s330558/schooling.html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choo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ys went to grammar schools while girls went to dame school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re was no chalkboards, maps, or paper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hool teachers were strict and were allowed to hit their students or make them wear a dunce ha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8" name="Picture 6" descr=""/>
          <p:cNvPicPr/>
          <p:nvPr/>
        </p:nvPicPr>
        <p:blipFill>
          <a:blip r:embed="rId1"/>
          <a:stretch/>
        </p:blipFill>
        <p:spPr>
          <a:xfrm>
            <a:off x="685800" y="2376360"/>
            <a:ext cx="38098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omas Hook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0" name="Object 3" descr=""/>
          <p:cNvPicPr/>
          <p:nvPr/>
        </p:nvPicPr>
        <p:blipFill>
          <a:blip r:embed="rId1"/>
          <a:stretch/>
        </p:blipFill>
        <p:spPr>
          <a:xfrm>
            <a:off x="1144440" y="1981080"/>
            <a:ext cx="2891160" cy="41148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 left Massachusetts to live in Connecticut because he didn’t like the way the Puritans live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1639,Connecticut had the FIRST WRITTEN LAWS IN NORTH AMERICA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92520" y="609120"/>
            <a:ext cx="476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oger Willia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oger Williams believed you should tolerate other people’s beliefs in Go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 left Massachusetts and started a colony, Providence.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4" name="Picture 4" descr="_x000c_rogerwil.jpg                                                   00024311&#13;Private Files                  B82C3CDE:"/>
          <p:cNvPicPr/>
          <p:nvPr/>
        </p:nvPicPr>
        <p:blipFill>
          <a:blip r:embed="rId1"/>
          <a:stretch/>
        </p:blipFill>
        <p:spPr>
          <a:xfrm>
            <a:off x="393840" y="888840"/>
            <a:ext cx="3571560" cy="52372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-3600" y="6126120"/>
            <a:ext cx="60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icture Credit: </a:t>
            </a:r>
            <a:r>
              <a:rPr b="1" lang="en-US" sz="1800" spc="-1" strike="noStrike" u="sng">
                <a:solidFill>
                  <a:srgbClr val="eaeaea"/>
                </a:solidFill>
                <a:uFillTx/>
                <a:latin typeface="Arial"/>
              </a:rPr>
              <a:t>www.nuwc.navy.mil/hq/ history/0003.html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701880" y="855720"/>
            <a:ext cx="532944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nne Hutchins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nne Hutchinson was a woman who believed you could go directly to God so you could pray to God without going through a pries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he moved to Providence with Roger Williams and started the Rhode Island Colony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8" name="Picture 4" descr="_x0008_anne.gif                                                       00024311&#13;Private Files                  B82C3CDE:"/>
          <p:cNvPicPr/>
          <p:nvPr/>
        </p:nvPicPr>
        <p:blipFill>
          <a:blip r:embed="rId1"/>
          <a:stretch/>
        </p:blipFill>
        <p:spPr>
          <a:xfrm>
            <a:off x="376200" y="855720"/>
            <a:ext cx="3325680" cy="49784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389880" y="6230880"/>
            <a:ext cx="855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icture Credit: </a:t>
            </a:r>
            <a:r>
              <a:rPr b="1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www.pbs.org/.../kids/civilrights/ features_hutchison.html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2T21:21:02Z</dcterms:created>
  <dc:creator>Mr. Hostetter</dc:creator>
  <dc:description/>
  <dc:language>en-US</dc:language>
  <cp:lastModifiedBy>laura.arnold</cp:lastModifiedBy>
  <dcterms:modified xsi:type="dcterms:W3CDTF">2012-10-24T21:01:54Z</dcterms:modified>
  <cp:revision>41</cp:revision>
  <dc:subject/>
  <dc:title>PowerPoint Presentation  -  13 Colonies</dc:title>
</cp:coreProperties>
</file>